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2188D-EFB2-4B4E-B42E-8C34695D0B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B4DC-B6E1-4E9F-9418-8C33D482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00D6-8492-4B53-B401-0DF061A2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1B960-3D97-4CAD-B6C8-0229CB0364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CB72-998B-40D7-93B5-C4F45AC6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E4EB9-4753-46D1-8790-75234D73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3C031-5A27-4B8B-A167-F96F9529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E16AF-C3BB-4976-AEDC-F8151DB9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41BE1-4D95-4EF0-B328-CFB93AC0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DDADE-59F6-4E52-A785-11952968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1129E-C76F-40A8-9CF2-D2CBBE2E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81ED1-0719-448E-A6B5-363B9609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5A8E-2E73-428D-B206-ED8AF9E6FC0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章  精神障碍的基本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知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楷体"/>
                <a:ea typeface="楷体"/>
              </a:rPr>
              <a:t>张淑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840" y="107172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奔逸：联想的速度加快，脑内概念不断涌现，内容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富生动但不深刻。常见于躁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迟缓：言语缓慢，思考问题困难，语量少，语音低，反应迟缓。多见于抑郁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贫乏：联想的数量减少，形成概念并进行判断和推理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过程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散漫：也称思维松弛，主要是思维的目的性和连贯性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破裂：在意识清楚的情况下，思维联想过程破裂，缺乏内在意义上的连贯性和应有的逻辑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不连贯：在严重的意识障碍情况下产生的，患者的言语更为杂乱，语句片断，毫无主题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赘述：联想过程迂回曲折，夹杂了大量琐碎的枝节，做不必要的、内容过分详细的叙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持续语言：单调地重复某一概念，或对不同的问题总是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第一次回答的话对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思维联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语言与刻板语言：联想停滞不前，在原地徘徊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阻滞：在无意识障碍和干扰的情况下，思维联想过程突然出现停滞或中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思维：指脑中涌现出大量的联想，不受主观意志的控制，但内容仍是自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插入：头脑中出现他人强加于己的思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思维扩散和思维被广播：自己的思想与人共享，毫无秘密可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142640"/>
            <a:ext cx="878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思维逻辑结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象征性思维：用一个无关的具体概念去代替某一个抽象概念，如不经患者本人解释，他人无法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语词新作：患者用自创的符号、图形、文字和语言或把现有的符号、图形、文字和语言来表达为一种新的、别人不易理解的、特殊离奇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逻辑倒错性思维：推理的逻辑性错误，最终导致结果违反常理和不能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二、思维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三）思维内容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妄想：错误地认识自我和客观事物的一种病态或歪曲的信念或观念，而且不接受事实与理性的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包括被害妄想、关系妄想、物理影响妄想、嫉妒妄想、夸大妄想、非血统妄想、钟情妄想、罪恶妄想、被洞悉感、疑病妄想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观念：同一意念反复出现于患者的思想中，患者自知没有必要或荒谬，并力图加以摆脱，但最终不能控制，无法摆脱，伴有主观的被迫感觉和痛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注意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1142640"/>
            <a:ext cx="885816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注意增强：主动注意的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注意减退：主动注意和被动注意的兴奋性均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注意狭窄：注意的指向性较长期地集中于某事物或事物的某一方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注意涣散：主动注意集中于客观对象的能力显著减退或丧失，同时也不能固定保持指向性，注意的稳定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注意转移：由于被动注意显著增强使主动注意不能持久，注意稳定性降低，随着外界环境的变化不断转换注意对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四、记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记忆增强：对某事件发生的所有细节都能回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二）记忆减退：对过去感知过的事物不能保持和再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遗忘：对以往感知过的事物部分或完全不能回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四）错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五）虚构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六）似曾相识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七）旧事如新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智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0" y="1142640"/>
            <a:ext cx="896472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精神发育迟滞：先天性或在围产期和生长发育成熟以前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以前），由于各种致病因素导致大脑发育不良或受阻，使智能发育停留在一定阶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二）痴呆：智能在出生后曾经获得充分发展，由于后天各种疾病的损害而造成智能部分或全部退化的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六、定向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定向力：指一个人对时间、地点、周围人物，以及对自己本身状态的认识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对时间、地点、人物三方面的认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对自身状态的认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患者本人的姓名、年龄、职业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七、自知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：也称为洞察力或内省力，是指患者对自身精神异常状态的认识与判断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自知力丧失在临床上可作为判断精神障碍的指标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精神障碍的生物学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遗传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素质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器质性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8584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情感性质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高涨：在连续的一段时间中，个体的情绪持续保持过分的满意和愉快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低落：在连续的一段时间中，个体的情绪持续保持过分的不满意和抑郁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欣快：患者的情绪高昂与周围环境不协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焦虑：在缺乏相应的客观因素的情况下担心、害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恐惧：面临不利的或危险处境时出现的情感反应，常伴有避开不利或危险处境的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情感波动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易激惹：接触客观事物时的情绪反应过于强烈，极易因小事而引发较强烈的情绪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制性哭笑：无明显原因、与客观环境不相适应地自发的、刻板的、强制性的哭或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病理性激情：一类强烈、突然出现、为时短暂的情绪暴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淡漠：接触客观事物时缺乏相应的情感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八、情感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5480" y="114264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三）情感协调性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情感倒错：指情感反应与其内心体验或处境不协调。如在描述自己遭遇的不幸时，患者表现为非常愉快。常见于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情感：同一患者对同一事物同时产生两种相反的、互相矛盾的情感体验，也称为对立情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意志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增强：确定目标和实现目标的动力明显增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减弱：确定目标和实现目标的动力明显减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志缺乏：导致确定目标和实现目标的动力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向倒错：患者的意向要求与一般常情相违背或为常人所不允许，以致患者的某些活动使人感到难以理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矛盾意向：患者对同一事物却同时产生对立的、相互矛盾的意志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兴奋：动作和行为明显增多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精神运动性抑制：动作和行为的明显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木僵：动作行为和言语活动完全抑制或减少，并经常保持一种固定姿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强迫动作：不由自主的、非患者意志所能控制的某种固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的行为或仪式性动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被动服从：任人摆布，听从旁人的任何吩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九、意志障碍和动作与行为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28400" y="1213920"/>
            <a:ext cx="87152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动作与行为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模仿症状：患者完全无目的地模仿他人的动作，常与模仿言语同时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违拗症：患者并非有意地不合作，而是对所有外来吩咐的一种无意地、不由自主地对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缄默症：患者缄默不语，也不回答问题，有时以手示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9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重复与刻板动作：指机械刻板地反复重复同一单调的动作，常和重复与刻板言语同时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00040" y="1142640"/>
            <a:ext cx="7143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一）对周围环境的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嗜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意识混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昏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内容占位符 2"/>
          <p:cNvSpPr/>
          <p:nvPr/>
        </p:nvSpPr>
        <p:spPr>
          <a:xfrm>
            <a:off x="4429080" y="1785960"/>
            <a:ext cx="442908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朦胧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走动性自动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谵妄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梦样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十、意识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00120" y="1428480"/>
            <a:ext cx="6572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二）自我意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人格解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交替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双重人格和多重人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人格转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0" name="WordArt 3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762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精神障碍的病因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精神障碍的心理、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因素主要指个体的认知、价值观、对外界事物的情感态度、个体的行为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因素指社会制度、社会生活条件、医疗水平、经济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6760" y="11426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、国际疾病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C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00-F0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（包括症状性）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10-F1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使用精神活性物质所致的精神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20-F2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、分裂型及妄想性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30-F3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（情感性）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40-F4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神经症性、应激性及躯体形式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50-F5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伴有生理障碍及躯体因素的行为综合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60-F6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成人的人格和行为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70-F7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80-F8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发育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0-F9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常发生于儿童及少年期的行为及精神障碍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F9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待分类的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142640"/>
            <a:ext cx="5500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美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S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●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发育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精神分裂症谱系及其他精神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双相及相关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抑郁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焦虑障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强迫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创伤及应激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分离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躯体化症状及相关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喂食及进食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排泄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睡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-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觉醒障碍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4572000" y="1357200"/>
            <a:ext cx="4572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功能失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别烦躁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破坏性、冲动控制及品行障碍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物质相关及成瘾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神经认知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人格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性欲倒错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其他精神障碍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药物所致的运动障碍及其他的药物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不良反应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●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可能成为临床关注焦点的其他情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第二节  精神障碍的诊断分类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142640"/>
            <a:ext cx="8572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中国精神障碍分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CM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0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器质性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活性物质与非成瘾物质所致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分裂症和其他精神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境障碍（情感性精神障碍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癔症、应激相关障碍、神经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5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心理因素相关生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6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人格障碍、习惯与冲动控制障碍、性心理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7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精神发育迟滞、童年和少年期心理发育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8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童年和少年期的多动障碍、品行障碍、情绪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9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其他精神障碍和心理卫生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精神障碍的症状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症状是大脑功能障碍的表现，是异常的精神活动，主要包括认知、情感、意志和行为等方面的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过敏：指患者对外界一般强度的刺激感受性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减退：指患者对外界一般强度的刺激感受性降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觉倒错：指患者对外界刺激可产生与正常人不同性质的或相反的异常感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内感性不适：指患者躯体内部产生的各种不舒适和（或）难以忍受的异样感觉，如蚁爬感、牵拉感、游走感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一、感知觉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知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错觉：对客观事物整体属性的错误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幻觉：无客观事物作用于感觉器官时出现的知觉体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幻听、幻视、幻嗅、幻味、幻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感知综合障碍：患者对客观事物的整体能正确感知，但对某些个别属性如大小、形状、比例等产生了错误的感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包括视物变形症、空间知觉障碍、周围环境改变的感知综合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6:19:08Z</dcterms:modified>
  <cp:revision>3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